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5B4-B2F0-45BE-830E-7C34BE17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9378-7769-413B-8AD6-696C5D11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2972-47BB-4067-9ABD-25931798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2BE9-3803-4933-AD20-3B06EF3C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6AB-8D3B-4A83-BF21-53C451E9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AA15-459C-41C6-972A-512E8AF1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150E-FF83-4473-923A-34DEEB32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8CC9-3D66-4F0F-B719-E8F167B0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089A-4489-4C6F-BDC8-1733657F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E683-BD07-4331-8159-97D1FE77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DDD-3452-45E7-84A6-676B0E6A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C2E-9967-4B66-9B4A-E7E2F7A4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760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2760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279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279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d2760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EE63-A19A-43C3-A922-F288307DC61A}" type="slidenum">
              <a:rPr b="1" lang="en-US" sz="1000" spc="-1" strike="noStrike">
                <a:solidFill>
                  <a:srgbClr val="d2760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108000" y="6353280"/>
          <a:ext cx="1008000" cy="38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6353280"/>
                    <a:ext cx="10080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Market Surveillance for 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Dr. Rainer Mikulits</a:t>
            </a:r>
            <a:endParaRPr b="1" lang="en-US" sz="2000" spc="-1" strike="noStrike">
              <a:solidFill>
                <a:srgbClr val="00279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Chairman AdCo MS-CP</a:t>
            </a:r>
            <a:endParaRPr b="1" lang="en-US" sz="20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General Framework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d2760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Tahoma"/>
              </a:rPr>
              <a:t>Regulation (EC) Nr. 765/2008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General Provisions and obligations of Member States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Procedures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Market surveillance measur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Products presenting a serious risk </a:t>
            </a:r>
            <a:r>
              <a:rPr b="0" lang="en-GB" sz="20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 RAPEX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Restrictive measur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General information support system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Control of imports from third countri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Cooperation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Exchange of information and mutual assistance of Market Surveillance Authoriti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Sharing of resources (training programmes, exchange of experiences, information campaigns) 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d2760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Tahoma"/>
              </a:rPr>
              <a:t>Regulation (EU) No 305/2011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Specific provisions regarding Construction Products (Art. 56)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Action pursuant Art. 20 (EC-Regulation 765/2008)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Not only „products presenting a serious risk“, but also</a:t>
            </a:r>
            <a:br>
              <a:rPr sz="1800"/>
            </a:b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„</a:t>
            </a:r>
            <a:r>
              <a:rPr b="0" lang="en-GB" sz="1800" spc="-1" strike="noStrike" u="sng">
                <a:solidFill>
                  <a:srgbClr val="00279f"/>
                </a:solidFill>
                <a:uFillTx/>
                <a:latin typeface="Tahoma"/>
              </a:rPr>
              <a:t>Products which do not achieve the declared performance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 and present a </a:t>
            </a:r>
            <a:r>
              <a:rPr b="0" lang="en-GB" sz="1800" spc="-1" strike="noStrike" u="sng">
                <a:solidFill>
                  <a:srgbClr val="00279f"/>
                </a:solidFill>
                <a:uFillTx/>
                <a:latin typeface="Tahoma"/>
              </a:rPr>
              <a:t>risk for the fulfilment of the basic requirements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“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valuation, benchmark are the requirements of the CPR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Information of EC and Member Stat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When non-compliance is not limited to the own Member Stat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Restrictive measures acc. to Art. 21 (EC-Regulation 765/2008)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Corrective actions – to bring the product into compliance</a:t>
            </a:r>
            <a:br>
              <a:rPr sz="1800"/>
            </a:b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„notably with the declared performance“ – before measures are taken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Information of Notified Body (if involved)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Feedback loop and Safeguard Procedure (Art. 57)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Market Surveillance Authority informs EC and Member States about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details of the cas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(restrictive) measures to be taken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reason for non-compliance (“bad product” or “bad specifications”)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Restrictive measures are only “provisional” during 15 days reaction time for EC and Member Stat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If objections are raised </a:t>
            </a:r>
            <a:r>
              <a:rPr b="0" lang="en-GB" sz="20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 Safeguard Procedure acc. to Art. 57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C consults Member States and economic operator(s)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C evaluates the (provisional) national measures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C decides whether justified or not 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If “bad specification”: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in case of hE information of CEN and </a:t>
            </a:r>
            <a:r>
              <a:rPr b="0" lang="en-GB" sz="18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 Committee 98/34/EC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in case of EAD </a:t>
            </a:r>
            <a:r>
              <a:rPr b="0" lang="en-GB" sz="18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 SCC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1" marL="7056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8608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Formal non-compliance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Cases acc. to Art. 59: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no CE marking although there is a declaration of performanc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wrong CE marking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no declaration of performance although required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wrong declaration of performanc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technical documentation missing or incomplet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Member State (sic!) shall require the economic operator to put an end to the non-compliance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Otherwise the Member State shall take appropriate measures 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Open questions: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Does the procedure according to Art. 56.4 (“feedback loop”) apply to cases of Art. 59.2 (measures in case of formal non-conformity) in analogy?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Does the procedure according to Art. 56.4 also apply to cases where the non-conformity is limited to the national territory of the market surveillance authority concerned?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What is the purpose and meaning of Art. 58 (complying construction products which nevertheless present a risk to health and safety)? 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3440" y="2654280"/>
            <a:ext cx="88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ff33"/>
                </a:solidFill>
                <a:latin typeface="Tahoma"/>
              </a:rPr>
              <a:t>Thank you very much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2:33:31Z</dcterms:created>
  <dc:creator>Rainer Mikulits</dc:creator>
  <dc:description/>
  <dc:language>en-US</dc:language>
  <cp:lastModifiedBy>katsage</cp:lastModifiedBy>
  <dcterms:modified xsi:type="dcterms:W3CDTF">2011-07-04T07:20:16Z</dcterms:modified>
  <cp:revision>8</cp:revision>
  <dc:subject/>
  <dc:title>Market Surveillance for Construction Products</dc:title>
</cp:coreProperties>
</file>